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9CE-5155-44CC-AF88-646BAAE0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456-685F-4452-B529-75D5263B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126-F703-484B-AEDC-04CD772E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EE6-5A2C-4DB9-B58F-6D4562EE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130F-C47C-41D5-81D2-228F6324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94ED-6D7F-429D-8128-E2DE0335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0312-4CB8-45F9-9A38-D37C30A0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74D0-5FB6-4C93-B5D6-FE4B365A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5416-C954-463C-A185-07C5E72F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1CEA-7C08-4660-B849-8AA9440E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91AA-3C88-45E8-995C-25C56742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C1E-730B-4E6D-82A5-A86CB5F7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3248-561E-429F-AC1A-61F8C983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2A8B-565E-46A6-AF7C-43428CC8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1677-3416-45F4-801B-FF72EBE6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A8A2-0C17-4A50-A4EB-8F841C1B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ABD-D3AF-403F-A86C-4FF132F8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C599-4129-4271-9564-E390C3B4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19409-9AE5-4E03-B20C-CCA954D6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CE6B-F7B3-4F43-AB68-03B7F10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D190-CCB8-424E-A938-F65641D1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C677-0E64-4FF9-BD57-7031411A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E21-5D09-4F7A-9DEB-DD821218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7E1DB-F1EC-4D45-B4C0-4248D917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A8BB-6D88-4F7A-8FAE-C34F5EF1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870F-3C97-40D2-9D5B-60BDD1AD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1AF7-86E0-4261-90D0-3B922D4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AE9C-9210-40CF-BC75-176CDC16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C591-9B96-45AF-AD2D-3D62B493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AD92-2A37-4E05-8A2E-92EA90C8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AEA7-5E4A-4D4A-965A-E09C083B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41E3-BEFD-40D1-AB1D-3D3C320E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F5F3-B33D-4074-BCD2-C334ECBB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D62-8B8F-489E-8E0F-C99708C9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1600-DD2B-4ECE-9489-F96F0899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0C47E-CC79-4ECC-968B-ADB052F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4BDC-4EFD-4329-9508-73E5922A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7BD2-5A53-4F83-9BB7-5F9AC1D2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B97B-55A8-4040-BE9A-4B1678BB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A844-05AC-44B9-87F3-180C626F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7EDD-D085-48F2-B467-3FD9805C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8566-F96F-4259-8DA6-C12A68A4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7D40-A510-4E0B-B0E8-D0EF2A03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24A-8F43-415E-AE0A-67978D60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1E9-A1AE-45BD-8A65-8746873C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5AC-F7AE-4935-8EE6-8D59640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FEA-1FDC-42DF-A4C8-3DEA5767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1D6-BD10-493C-9591-8ECD9EB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21FA-6730-4CE4-A160-B9C9AFFDD8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0BC8-86A3-4E4F-91C4-46B1EED7A0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4FFC-C51E-4AD7-8F96-9D750DD0AE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7B91-2272-4C4A-AAF2-6A47AA3AE3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Исследовательская работа</a:t>
            </a: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оспитание девочек в русских традициях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0" y="2743200"/>
            <a:ext cx="4952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: Дергилёва Ан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3 «А» класса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«Гимназия «18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Старый Оскол                                                               Руководитель проекта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ванюта Г.В.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465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cc"/>
                </a:solidFill>
                <a:latin typeface="Times New Roman"/>
              </a:rPr>
              <a:t>Вывод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ь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имает особое место в жизни каждого человека, поскольку в традиционной русской культуре она рассматривается как естественное природное окру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рядок домашнего воспитания обеспечивает определённый уклад семьи, традиции, обычаи, праздники, обря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ее воспитание девочки ориентирован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ирскую, повседневную жизнь человека. Его цель – подготовить ребёнка к этой жизни, чтобы она была ему «не в тягость, а в радост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Итог нашей работы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ы изучили особенности семейного воспитания девочек в крестьянских семь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ыяснили роль колыбельных песен и пестушек  в семейном воспит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роверили предположение о том, что воспитание девочки в русских традициях поможет ей правильно построить семейные взаимоотношения в  будущ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ктуальность нашей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то скрывается за словами «моя семья» для маленького ребенка? Раньше даже в крестьянской семье прекрасно понимали, что недостаток  родительского внимания и заботы в первые годы жизни ребёнка негативно сказывается на его будущем. К сожалению, в настоящее время в нашем обществе утрачены русские национальные традиции, в большинстве семей у девочек не воспитывается роль  матери, у мальчиков не формируется мужественность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Цель работы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: выявить особенности семейного воспитания  девочки в русских традициях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учить особенности семейного воспитания девочек в крестьянских семьях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яснить роль колыбельных песен и пестушек  в семейном воспитани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верить предположение о том, что воспитание девочки в русских традициях поможет ей правильно построить семейные взаимоотношения в  будущ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В семье любовь да совет, так и нужды нет»,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Объект исследования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  особенности семейного воспитания девочки в русских традиция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редмет исследования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 культура семейного воспитания девоч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Наше   предположение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ие девочки в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их тради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жет ей правильно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ить семейные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отношени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ущем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730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  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Не та мать, что родила, а та,   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          что выходила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радиции до пяти-семилетнего возраста мать играла главную роль в выхаживании и воспитании ребё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ать возлагались надежды как на  воспитательницу у девочек нравственности, целомудренности и послуш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очки, в свою очередь, должны были видеть в матери образец для подражания, любить и уважать её до стар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Не та родна дочь, что бежит от дела прочь, а та родна  дочь, что на всякой работе видна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16765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645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лыбель ребёнка – это удивительный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родный «инструмент» для укачивания младенцев.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олыбель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лся и мир матери – её чувства, переживания, мечты о будущем своего ребё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ту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пределённое руководство матери к действ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5179320"/>
            <a:ext cx="68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Колыбельные песни, пестушки, потешки формируют у ребёнка положительные эмоции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0" y="1749600"/>
            <a:ext cx="481644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0-01-30T11:26:32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